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86563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1A7-C297-4A67-B7B4-AF7C32AE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8DB-CB82-4E8A-B88F-8F321EB8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E5C-FA06-4590-98F3-EB8FAE17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F01-8914-4E65-9E89-6BAD11BB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E1F-7FF9-41B7-B628-E4ED7564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F07-33CB-40C1-B253-C2D6CA60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495-9039-403B-AFC5-DBC7F8D4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635-F78E-4AFF-9346-6A7E8171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7E4-E5AB-4D53-880B-D484AB4D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C39-1C66-4E9D-B9F6-707B1CF4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090-E628-45CC-B4FA-44CF50E6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14A7-178E-4406-8404-281A0667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EBC8-D316-48EC-844C-59A0D716A3DA}" type="datetime">
              <a:rPr b="0" lang="bg-BG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6AC8-1FA9-462E-A955-12202B1F219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4920" y="5157720"/>
            <a:ext cx="8497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</a:rPr>
              <a:t>INTERREG IVC,</a:t>
            </a:r>
            <a:r>
              <a:rPr b="0" lang="bg-BG" sz="800" spc="-1" strike="noStrike">
                <a:solidFill>
                  <a:srgbClr val="3333cc"/>
                </a:solidFill>
                <a:latin typeface="Arial"/>
              </a:rPr>
              <a:t> Враца</a:t>
            </a:r>
            <a:r>
              <a:rPr b="0" lang="en-US" sz="8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lang="bg-BG" sz="800" spc="-1" strike="noStrike">
                <a:solidFill>
                  <a:srgbClr val="3333cc"/>
                </a:solidFill>
                <a:latin typeface="Arial"/>
              </a:rPr>
              <a:t> 17/02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logo_eproc"/>
          <p:cNvPicPr/>
          <p:nvPr/>
        </p:nvPicPr>
        <p:blipFill>
          <a:blip r:embed="rId1"/>
          <a:stretch/>
        </p:blipFill>
        <p:spPr>
          <a:xfrm>
            <a:off x="2340000" y="501480"/>
            <a:ext cx="1440000" cy="649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INTERREG_IVC_LOGO_slogan"/>
          <p:cNvPicPr/>
          <p:nvPr/>
        </p:nvPicPr>
        <p:blipFill>
          <a:blip r:embed="rId2"/>
          <a:stretch/>
        </p:blipFill>
        <p:spPr>
          <a:xfrm>
            <a:off x="5148360" y="260280"/>
            <a:ext cx="1942920" cy="71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5292720" y="1052640"/>
            <a:ext cx="1828800" cy="538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CI-VRATZA_2006"/>
          <p:cNvPicPr/>
          <p:nvPr/>
        </p:nvPicPr>
        <p:blipFill>
          <a:blip r:embed="rId4"/>
          <a:stretch/>
        </p:blipFill>
        <p:spPr>
          <a:xfrm>
            <a:off x="684360" y="476280"/>
            <a:ext cx="1223640" cy="817560"/>
          </a:xfrm>
          <a:prstGeom prst="rect">
            <a:avLst/>
          </a:prstGeom>
          <a:ln w="0">
            <a:noFill/>
          </a:ln>
        </p:spPr>
      </p:pic>
      <p:sp>
        <p:nvSpPr>
          <p:cNvPr id="4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8764-7F89-4408-B776-AD3CE5CEC9C4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00000" y="2276640"/>
            <a:ext cx="7488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333399"/>
                </a:solidFill>
                <a:latin typeface="Arial"/>
              </a:rPr>
              <a:t>Роля и въздействие </a:t>
            </a:r>
            <a:br>
              <a:rPr sz="3600"/>
            </a:br>
            <a:r>
              <a:rPr b="0" lang="bg-BG" sz="3600" spc="-1" strike="noStrike">
                <a:solidFill>
                  <a:srgbClr val="333399"/>
                </a:solidFill>
                <a:latin typeface="Arial"/>
              </a:rPr>
              <a:t>на Наръчника за Добри прак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200" spc="-1" strike="noStrike">
                <a:solidFill>
                  <a:srgbClr val="333399"/>
                </a:solidFill>
                <a:latin typeface="Arial Narrow"/>
              </a:rPr>
              <a:t>Проект : Европейско регионално сътрудничеств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200" spc="-1" strike="noStrike">
                <a:solidFill>
                  <a:srgbClr val="333399"/>
                </a:solidFill>
                <a:latin typeface="Arial Narrow"/>
              </a:rPr>
              <a:t>за достъп на МСП  до обществени поръч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1557000"/>
            <a:ext cx="761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Arial"/>
              </a:rPr>
              <a:t>Нашето партньо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ато партньор по проекта ТПП-Враца работи за повишаване на общественото внимание към законодателството за ОП и за борба с корупцията в тази сф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сяко събитие по проекта е динамично, но и диалогично, за да стимулира сътрудничеството, работата в мрежа и обединените усилия за по-добър достъп до О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 проведения на 24 ноември, 2010 г. дискусионен форум ТПП-Враца влезе в контакт с групата за промяна на ЗО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ТПП участва в първото обществено обсъждане на промените в ЗОП на 6 януари, 2011 г. в Министерски съвет и предложи конкретни промени, стурктурирани в 11 точки, като например: 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адължително включване на представители на браншови организации в комисиите по оценка; По-широк кръг от данни в регистъра на ОП; Гарантирано от закона санкциониране на виновните длъжностни лица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и др.</a:t>
            </a:r>
            <a:r>
              <a:rPr b="0" i="1" lang="bg-BG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logo_eproc"/>
          <p:cNvPicPr/>
          <p:nvPr/>
        </p:nvPicPr>
        <p:blipFill>
          <a:blip r:embed="rId1"/>
          <a:stretch/>
        </p:blipFill>
        <p:spPr>
          <a:xfrm>
            <a:off x="1979640" y="260280"/>
            <a:ext cx="1655640" cy="74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INTERREG_IVC_LOGO_slogan"/>
          <p:cNvPicPr/>
          <p:nvPr/>
        </p:nvPicPr>
        <p:blipFill>
          <a:blip r:embed="rId2"/>
          <a:stretch/>
        </p:blipFill>
        <p:spPr>
          <a:xfrm>
            <a:off x="5148360" y="333360"/>
            <a:ext cx="1942920" cy="71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5429160" y="1071720"/>
            <a:ext cx="1828800" cy="537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CI-VRATZA_2006"/>
          <p:cNvPicPr/>
          <p:nvPr/>
        </p:nvPicPr>
        <p:blipFill>
          <a:blip r:embed="rId4"/>
          <a:stretch/>
        </p:blipFill>
        <p:spPr>
          <a:xfrm>
            <a:off x="611280" y="333360"/>
            <a:ext cx="960480" cy="64152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54BB-0046-4486-94E4-26615889587B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76150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000099"/>
                </a:solidFill>
                <a:latin typeface="Arial"/>
              </a:rPr>
              <a:t>Практически стъпки и решения за МСП в Наръчни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640" y="2276640"/>
            <a:ext cx="87138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 Narrow"/>
              </a:rPr>
              <a:t>Консултиране по отношение на пазара преди тър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 Narrow"/>
              </a:rPr>
              <a:t>Поведение на интелигентен клиен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 Narrow"/>
              </a:rPr>
              <a:t>Включване на заинтересованите стран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 Narrow"/>
              </a:rPr>
              <a:t>Включване на иновативни решения, предложени от пазар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 Narrow"/>
              </a:rPr>
              <a:t>Търсене на икономически най-изгодна оферт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 Narrow"/>
              </a:rPr>
              <a:t>Предимство на информационните технолог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 Narrow"/>
              </a:rPr>
              <a:t>Управление на рис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 Narrow"/>
              </a:rPr>
              <a:t>Договорни клаузи за насърчаване на иновациит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 Narrow"/>
              </a:rPr>
              <a:t>План за изпълн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 Narrow"/>
              </a:rPr>
              <a:t>Продължаващо учене с перспектива за бъдещет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 Narrow"/>
              </a:rPr>
              <a:t>Иновацията като животоспасяваща операция за бизнеса-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 Narrow"/>
              </a:rPr>
              <a:t>без заинтересованост към постиженията, без натиск от страна на фирмите към науката да предлага решения, които да са полезни и да носят по-висока ефективност и производителност, няма да има напредък за нито една стран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logo_eproc"/>
          <p:cNvPicPr/>
          <p:nvPr/>
        </p:nvPicPr>
        <p:blipFill>
          <a:blip r:embed="rId1"/>
          <a:stretch/>
        </p:blipFill>
        <p:spPr>
          <a:xfrm>
            <a:off x="1979640" y="260280"/>
            <a:ext cx="1655640" cy="746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INTERREG_IVC_LOGO_slogan"/>
          <p:cNvPicPr/>
          <p:nvPr/>
        </p:nvPicPr>
        <p:blipFill>
          <a:blip r:embed="rId2"/>
          <a:stretch/>
        </p:blipFill>
        <p:spPr>
          <a:xfrm>
            <a:off x="5148360" y="333360"/>
            <a:ext cx="1942920" cy="71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5429160" y="1071720"/>
            <a:ext cx="1828800" cy="537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CCI-VRATZA_2006"/>
          <p:cNvPicPr/>
          <p:nvPr/>
        </p:nvPicPr>
        <p:blipFill>
          <a:blip r:embed="rId4"/>
          <a:stretch/>
        </p:blipFill>
        <p:spPr>
          <a:xfrm>
            <a:off x="500040" y="214200"/>
            <a:ext cx="1212840" cy="80964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3368-A3D0-42F9-8DF3-8D8CE5323C9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615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Arial"/>
              </a:rPr>
              <a:t>Предстоящи интеррегионални събития п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82803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ждународен панаир </a:t>
            </a:r>
            <a:br>
              <a:rPr sz="2000"/>
            </a:br>
            <a:r>
              <a:rPr b="0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на водите и екология</a:t>
            </a:r>
            <a:br>
              <a:rPr sz="20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 фокус върху управление на водите, управление на отпадъците и защита във всички аспекти на околната среда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: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24 – 26 Май, 2011 г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ъде: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ложбен център Бърно, Чех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ид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2Р - Среща на бизнеса с възложители н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ществени поръ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террегионална конференция</a:t>
            </a:r>
            <a:br>
              <a:rPr sz="2000"/>
            </a:br>
            <a:r>
              <a:rPr b="0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Как да подобрим достъпа на МСП до обществени поръчки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: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2 Юни, 2011 г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ъде: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Барселона, Испан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logo_eproc"/>
          <p:cNvPicPr/>
          <p:nvPr/>
        </p:nvPicPr>
        <p:blipFill>
          <a:blip r:embed="rId1"/>
          <a:stretch/>
        </p:blipFill>
        <p:spPr>
          <a:xfrm>
            <a:off x="1979640" y="260280"/>
            <a:ext cx="1655640" cy="746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INTERREG_IVC_LOGO_slogan"/>
          <p:cNvPicPr/>
          <p:nvPr/>
        </p:nvPicPr>
        <p:blipFill>
          <a:blip r:embed="rId2"/>
          <a:stretch/>
        </p:blipFill>
        <p:spPr>
          <a:xfrm>
            <a:off x="5148360" y="333360"/>
            <a:ext cx="1942920" cy="719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5429160" y="1071720"/>
            <a:ext cx="1828800" cy="53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CI-VRATZA_2006"/>
          <p:cNvPicPr/>
          <p:nvPr/>
        </p:nvPicPr>
        <p:blipFill>
          <a:blip r:embed="rId4"/>
          <a:stretch/>
        </p:blipFill>
        <p:spPr>
          <a:xfrm>
            <a:off x="500040" y="214200"/>
            <a:ext cx="1212840" cy="80964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093E-512E-4AD7-8733-70F7109467B8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0080" y="1785960"/>
            <a:ext cx="492912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Благодарим за вниманието Ви</a:t>
            </a:r>
            <a:br>
              <a:rPr sz="2400"/>
            </a:b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и очакваме Вашето</a:t>
            </a:r>
            <a:br>
              <a:rPr sz="2400"/>
            </a:b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ангажирано участие!</a:t>
            </a:r>
            <a:br>
              <a:rPr sz="2400"/>
            </a:br>
            <a:br>
              <a:rPr sz="2400"/>
            </a:br>
            <a:r>
              <a:rPr b="0" lang="bg-BG" sz="1400" spc="-1" strike="noStrike">
                <a:solidFill>
                  <a:srgbClr val="000099"/>
                </a:solidFill>
                <a:latin typeface="Arial"/>
              </a:rPr>
              <a:t>ТПП-Враца, бул. “Хр. Ботев” 24, тел. 092/ 660271,</a:t>
            </a:r>
            <a:br>
              <a:rPr sz="1400"/>
            </a:br>
            <a:r>
              <a:rPr b="0" lang="bg-BG" sz="1400" spc="-1" strike="noStrike">
                <a:solidFill>
                  <a:srgbClr val="000099"/>
                </a:solidFill>
                <a:latin typeface="Arial"/>
              </a:rPr>
              <a:t>факс 092/ 626308,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-mail:cci-vr@online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56840" y="1999800"/>
            <a:ext cx="36687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logo_eproc"/>
          <p:cNvPicPr/>
          <p:nvPr/>
        </p:nvPicPr>
        <p:blipFill>
          <a:blip r:embed="rId1"/>
          <a:stretch/>
        </p:blipFill>
        <p:spPr>
          <a:xfrm>
            <a:off x="2627280" y="476280"/>
            <a:ext cx="1440000" cy="649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NTERREG_IVC_LOGO_slogan"/>
          <p:cNvPicPr/>
          <p:nvPr/>
        </p:nvPicPr>
        <p:blipFill>
          <a:blip r:embed="rId2"/>
          <a:stretch/>
        </p:blipFill>
        <p:spPr>
          <a:xfrm>
            <a:off x="5148360" y="333360"/>
            <a:ext cx="1942920" cy="71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3"/>
          <a:stretch/>
        </p:blipFill>
        <p:spPr>
          <a:xfrm>
            <a:off x="5357880" y="1071720"/>
            <a:ext cx="1828800" cy="537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CCI-VRATZA_2006"/>
          <p:cNvPicPr/>
          <p:nvPr/>
        </p:nvPicPr>
        <p:blipFill>
          <a:blip r:embed="rId4"/>
          <a:stretch/>
        </p:blipFill>
        <p:spPr>
          <a:xfrm>
            <a:off x="826920" y="404640"/>
            <a:ext cx="1224000" cy="81756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14CB-B900-4B4D-8847-CAFC2EE969D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5"/>
          <a:stretch/>
        </p:blipFill>
        <p:spPr>
          <a:xfrm>
            <a:off x="6215040" y="4365720"/>
            <a:ext cx="17766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1360" y="1571400"/>
            <a:ext cx="54514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99"/>
                </a:solidFill>
                <a:latin typeface="Arial"/>
              </a:rPr>
              <a:t>Цели на про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80438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ели консолидирането на обществените поръчки като ключов елемент в бизнес-стратегиите на МСП чрез адаптиране и подобряване на услугите по иновативен нач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uroPROC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ели за европейските МС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а оценят и използват предимствата на нарастващите бизнес възможности при обществените поръ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а се повиши конкурентоспособността чрез участието на МСП в пазара на обществени поръч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uroPROC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ели за органите, формиращи политик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а се променят и адаптират инструментите на политиката, за да се улесни участието на МСП в обществените поръч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а се осигурят ефективни инструменти за подкрепа на МСП, за да се преодолеят пречките, с които се сблъскват, когато участват в пазарите на обществени поръч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logo_eproc"/>
          <p:cNvPicPr/>
          <p:nvPr/>
        </p:nvPicPr>
        <p:blipFill>
          <a:blip r:embed="rId1"/>
          <a:stretch/>
        </p:blipFill>
        <p:spPr>
          <a:xfrm>
            <a:off x="2627280" y="476280"/>
            <a:ext cx="1440000" cy="64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INTERREG_IVC_LOGO_slogan"/>
          <p:cNvPicPr/>
          <p:nvPr/>
        </p:nvPicPr>
        <p:blipFill>
          <a:blip r:embed="rId2"/>
          <a:stretch/>
        </p:blipFill>
        <p:spPr>
          <a:xfrm>
            <a:off x="5148360" y="333360"/>
            <a:ext cx="1942920" cy="71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5357880" y="1071720"/>
            <a:ext cx="1828800" cy="537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CI-VRATZA_2006"/>
          <p:cNvPicPr/>
          <p:nvPr/>
        </p:nvPicPr>
        <p:blipFill>
          <a:blip r:embed="rId4"/>
          <a:stretch/>
        </p:blipFill>
        <p:spPr>
          <a:xfrm>
            <a:off x="826920" y="404640"/>
            <a:ext cx="1224000" cy="81756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70BC-E9C8-49B4-A918-9479B7E24173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1699920"/>
            <a:ext cx="7929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333399"/>
                </a:solidFill>
                <a:latin typeface="Arial"/>
              </a:rPr>
              <a:t>Законодателство на ЕС за обществените поръ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рективи за обществени поръчки – законодателен  пакет, одобрен през 2004 г. от Европейския парламент и Съвета на Министрите на 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ове на приложение: Регламент на Комисията (EC) N° 1177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ък с договарящите органи: Решение на Комисията 2008/963/EC от 9.12.2008 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и за обявите за обществени поръчки:  Регламент на Комисията (EC) N° 1564/2005 от 7.09.20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logo_eproc"/>
          <p:cNvPicPr/>
          <p:nvPr/>
        </p:nvPicPr>
        <p:blipFill>
          <a:blip r:embed="rId1"/>
          <a:stretch/>
        </p:blipFill>
        <p:spPr>
          <a:xfrm>
            <a:off x="1979640" y="260280"/>
            <a:ext cx="1655640" cy="74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INTERREG_IVC_LOGO_slogan"/>
          <p:cNvPicPr/>
          <p:nvPr/>
        </p:nvPicPr>
        <p:blipFill>
          <a:blip r:embed="rId2"/>
          <a:stretch/>
        </p:blipFill>
        <p:spPr>
          <a:xfrm>
            <a:off x="5148360" y="333360"/>
            <a:ext cx="1942920" cy="719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5429160" y="1143000"/>
            <a:ext cx="1828800" cy="538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CI-VRATZA_2006"/>
          <p:cNvPicPr/>
          <p:nvPr/>
        </p:nvPicPr>
        <p:blipFill>
          <a:blip r:embed="rId4"/>
          <a:stretch/>
        </p:blipFill>
        <p:spPr>
          <a:xfrm>
            <a:off x="539640" y="333360"/>
            <a:ext cx="1152720" cy="77004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FAC0-BCB0-49EE-A22B-137C5A69E96C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1699920"/>
            <a:ext cx="7929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333399"/>
                </a:solidFill>
                <a:latin typeface="Arial"/>
              </a:rPr>
              <a:t>Ръководства на ЕК за обществените поръ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ропейската комисия е публикувала 6 Наръчника и Кодекси, които представят иновативни решения при обществените поръчки. Те предлагат методология, подкрепена с полезна практика от различни страни –членки на Е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декс на добрите пра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ъчник за правилата на Общността за договорите за ОП за до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ъчник за правилата на Общността за ОП за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ъчник за правилата на Общността относно ОП за строител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ъководство за «зелени» обществени поръ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ъчник за иновативни решения при ОП: 10 елемента на добрата пра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logo_eproc"/>
          <p:cNvPicPr/>
          <p:nvPr/>
        </p:nvPicPr>
        <p:blipFill>
          <a:blip r:embed="rId1"/>
          <a:stretch/>
        </p:blipFill>
        <p:spPr>
          <a:xfrm>
            <a:off x="1979640" y="260280"/>
            <a:ext cx="1655640" cy="74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INTERREG_IVC_LOGO_slogan"/>
          <p:cNvPicPr/>
          <p:nvPr/>
        </p:nvPicPr>
        <p:blipFill>
          <a:blip r:embed="rId2"/>
          <a:stretch/>
        </p:blipFill>
        <p:spPr>
          <a:xfrm>
            <a:off x="5148360" y="333360"/>
            <a:ext cx="1942920" cy="71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5429160" y="1143000"/>
            <a:ext cx="1828800" cy="538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CI-VRATZA_2006"/>
          <p:cNvPicPr/>
          <p:nvPr/>
        </p:nvPicPr>
        <p:blipFill>
          <a:blip r:embed="rId4"/>
          <a:stretch/>
        </p:blipFill>
        <p:spPr>
          <a:xfrm>
            <a:off x="539640" y="333360"/>
            <a:ext cx="1152720" cy="770040"/>
          </a:xfrm>
          <a:prstGeom prst="rect">
            <a:avLst/>
          </a:prstGeom>
          <a:ln w="0">
            <a:noFill/>
          </a:ln>
        </p:spPr>
      </p:pic>
      <p:sp>
        <p:nvSpPr>
          <p:cNvPr id="68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D239-E6EC-48C3-AA25-933387A4D66B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0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333399"/>
                </a:solidFill>
                <a:latin typeface="Arial"/>
              </a:rPr>
              <a:t>Основни крайни продукти от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ъчник за Добри практик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бществените поръ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азположение от началото на годината и на Български език в електронен вид и като кни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ъчник за Новите подход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обществените  поръ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 м. Април, 2011 г. предстои той да излезе на Английски, а  до края на м. Юни трябва да е достъпен и на Български ез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logo_eproc"/>
          <p:cNvPicPr/>
          <p:nvPr/>
        </p:nvPicPr>
        <p:blipFill>
          <a:blip r:embed="rId1"/>
          <a:stretch/>
        </p:blipFill>
        <p:spPr>
          <a:xfrm>
            <a:off x="1979640" y="260280"/>
            <a:ext cx="1655640" cy="746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INTERREG_IVC_LOGO_slogan"/>
          <p:cNvPicPr/>
          <p:nvPr/>
        </p:nvPicPr>
        <p:blipFill>
          <a:blip r:embed="rId2"/>
          <a:stretch/>
        </p:blipFill>
        <p:spPr>
          <a:xfrm>
            <a:off x="5148360" y="333360"/>
            <a:ext cx="194292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5429160" y="1143000"/>
            <a:ext cx="1828800" cy="538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CCI-VRATZA_2006"/>
          <p:cNvPicPr/>
          <p:nvPr/>
        </p:nvPicPr>
        <p:blipFill>
          <a:blip r:embed="rId4"/>
          <a:stretch/>
        </p:blipFill>
        <p:spPr>
          <a:xfrm>
            <a:off x="539640" y="333360"/>
            <a:ext cx="1152720" cy="77004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C2DB-2386-442A-B6F0-79B98C96C0F9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916280"/>
            <a:ext cx="8136000" cy="51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Arial"/>
              </a:rPr>
              <a:t>Структура на Наръчника за Добри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80" y="2571840"/>
            <a:ext cx="820908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ъведението на Наръчника обяснява защо обществените поръчки са важни за МСП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следващите раздели ще намерите информация за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ек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roPROC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; Инициативи на Европейската комисия, касаещи ОП - законодателство, ръководства и програми, електронни обществени поръчки, мрежа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nterprise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ope Network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рамките на 3-4 страници е представена всяка от селектираните 17 Добри практики, които се прилагат от различни европейски организации.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logo_eproc"/>
          <p:cNvPicPr/>
          <p:nvPr/>
        </p:nvPicPr>
        <p:blipFill>
          <a:blip r:embed="rId1"/>
          <a:stretch/>
        </p:blipFill>
        <p:spPr>
          <a:xfrm>
            <a:off x="2050920" y="291960"/>
            <a:ext cx="1584360" cy="71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INTERREG_IVC_LOGO_slogan"/>
          <p:cNvPicPr/>
          <p:nvPr/>
        </p:nvPicPr>
        <p:blipFill>
          <a:blip r:embed="rId2"/>
          <a:stretch/>
        </p:blipFill>
        <p:spPr>
          <a:xfrm>
            <a:off x="5148360" y="333360"/>
            <a:ext cx="1942920" cy="719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5429160" y="1143000"/>
            <a:ext cx="1828800" cy="53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CI-VRATZA_2006"/>
          <p:cNvPicPr/>
          <p:nvPr/>
        </p:nvPicPr>
        <p:blipFill>
          <a:blip r:embed="rId4"/>
          <a:stretch/>
        </p:blipFill>
        <p:spPr>
          <a:xfrm>
            <a:off x="468360" y="333360"/>
            <a:ext cx="1150920" cy="76824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429E-7F04-4BAC-A6AC-27EE9D271A9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136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Arial"/>
              </a:rPr>
              <a:t>Структура на представените Добри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2643120"/>
            <a:ext cx="82090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актиките са представени в следните разд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Описание и цели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Резултати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Методология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етапи, външни източници и бюджет,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                               персонал и необходимо време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Забележк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специфики при създаването и прилагането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Контак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е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за връзка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Успешна практик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успешен казус с реална фи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logo_eproc"/>
          <p:cNvPicPr/>
          <p:nvPr/>
        </p:nvPicPr>
        <p:blipFill>
          <a:blip r:embed="rId1"/>
          <a:stretch/>
        </p:blipFill>
        <p:spPr>
          <a:xfrm>
            <a:off x="2050920" y="291960"/>
            <a:ext cx="1584360" cy="714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INTERREG_IVC_LOGO_slogan"/>
          <p:cNvPicPr/>
          <p:nvPr/>
        </p:nvPicPr>
        <p:blipFill>
          <a:blip r:embed="rId2"/>
          <a:stretch/>
        </p:blipFill>
        <p:spPr>
          <a:xfrm>
            <a:off x="5148360" y="333360"/>
            <a:ext cx="1942920" cy="71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5429160" y="1143000"/>
            <a:ext cx="1828800" cy="538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CI-VRATZA_2006"/>
          <p:cNvPicPr/>
          <p:nvPr/>
        </p:nvPicPr>
        <p:blipFill>
          <a:blip r:embed="rId4"/>
          <a:stretch/>
        </p:blipFill>
        <p:spPr>
          <a:xfrm>
            <a:off x="468360" y="333360"/>
            <a:ext cx="1150920" cy="768240"/>
          </a:xfrm>
          <a:prstGeom prst="rect">
            <a:avLst/>
          </a:prstGeom>
          <a:ln w="0">
            <a:noFill/>
          </a:ln>
        </p:spPr>
      </p:pic>
      <p:sp>
        <p:nvSpPr>
          <p:cNvPr id="8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8C6F-4971-4969-9AA5-B97927FEB0C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615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Arial"/>
              </a:rPr>
              <a:t>Заключение и приложения на Наръ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8280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кого е предназначен Наръчника: </a:t>
            </a:r>
            <a:br>
              <a:rPr sz="800"/>
            </a:br>
            <a:br>
              <a:rPr sz="8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алки и средни предприятия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ублични власти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рганизации в подкрепа на бизнеса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ички за промяна в културата на обществените поръ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к е съставен Наръчн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рез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оучване за международен сравнителен анализ на добри практики (посочени са участвалите организации) и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ътрудничество с Европейските институции и по-специално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вропейската комисия и нейните служ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logo_eproc"/>
          <p:cNvPicPr/>
          <p:nvPr/>
        </p:nvPicPr>
        <p:blipFill>
          <a:blip r:embed="rId1"/>
          <a:stretch/>
        </p:blipFill>
        <p:spPr>
          <a:xfrm>
            <a:off x="1979640" y="260280"/>
            <a:ext cx="1655640" cy="74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INTERREG_IVC_LOGO_slogan"/>
          <p:cNvPicPr/>
          <p:nvPr/>
        </p:nvPicPr>
        <p:blipFill>
          <a:blip r:embed="rId2"/>
          <a:stretch/>
        </p:blipFill>
        <p:spPr>
          <a:xfrm>
            <a:off x="5148360" y="333360"/>
            <a:ext cx="1942920" cy="71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5429160" y="1071720"/>
            <a:ext cx="1828800" cy="537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CI-VRATZA_2006"/>
          <p:cNvPicPr/>
          <p:nvPr/>
        </p:nvPicPr>
        <p:blipFill>
          <a:blip r:embed="rId4"/>
          <a:stretch/>
        </p:blipFill>
        <p:spPr>
          <a:xfrm>
            <a:off x="611280" y="333360"/>
            <a:ext cx="960480" cy="64152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02AE-6743-4338-BF8E-63C5AABA7D7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3880" y="1571400"/>
            <a:ext cx="471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Arial"/>
              </a:rPr>
              <a:t>Разпространение на Наръч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4240" y="2420640"/>
            <a:ext cx="80344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айта на проект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uroproc.eu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ractice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айта на ТПП-Враца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ci-vrats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кция Проекти,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убриката за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ек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 хартиен носител като пълноцветна книж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logo_eproc"/>
          <p:cNvPicPr/>
          <p:nvPr/>
        </p:nvPicPr>
        <p:blipFill>
          <a:blip r:embed="rId1"/>
          <a:stretch/>
        </p:blipFill>
        <p:spPr>
          <a:xfrm>
            <a:off x="1979640" y="260280"/>
            <a:ext cx="1655640" cy="746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INTERREG_IVC_LOGO_slogan"/>
          <p:cNvPicPr/>
          <p:nvPr/>
        </p:nvPicPr>
        <p:blipFill>
          <a:blip r:embed="rId2"/>
          <a:stretch/>
        </p:blipFill>
        <p:spPr>
          <a:xfrm>
            <a:off x="5148360" y="333360"/>
            <a:ext cx="1942920" cy="7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5429160" y="1071720"/>
            <a:ext cx="1828800" cy="537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CI-VRATZA_2006"/>
          <p:cNvPicPr/>
          <p:nvPr/>
        </p:nvPicPr>
        <p:blipFill>
          <a:blip r:embed="rId4"/>
          <a:stretch/>
        </p:blipFill>
        <p:spPr>
          <a:xfrm>
            <a:off x="611280" y="333360"/>
            <a:ext cx="960480" cy="64152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31E3-9EFD-4986-AEEA-9631E638F56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5"/>
          <a:stretch/>
        </p:blipFill>
        <p:spPr>
          <a:xfrm>
            <a:off x="4356000" y="3645000"/>
            <a:ext cx="3071880" cy="2071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6"/>
          <a:stretch/>
        </p:blipFill>
        <p:spPr>
          <a:xfrm>
            <a:off x="4356000" y="1700280"/>
            <a:ext cx="30178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38:44Z</dcterms:created>
  <dc:creator>MIRA</dc:creator>
  <dc:description/>
  <dc:language>en-US</dc:language>
  <cp:lastModifiedBy>PC</cp:lastModifiedBy>
  <dcterms:modified xsi:type="dcterms:W3CDTF">2011-02-16T21:29:26Z</dcterms:modified>
  <cp:revision>259</cp:revision>
  <dc:subject/>
  <dc:title>Slide 1</dc:title>
</cp:coreProperties>
</file>